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E03-AF1C-414E-8000-06C9C01F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E21-F42E-419A-8D22-E54D51E8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9993D-55FB-4F39-A412-2ACED228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3301E-092E-4DB5-A302-4AC97D9D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59661-991B-4DB7-86BD-939EE7A2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111AD-12E1-49CC-A924-F249D3E3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016AE-53D3-4C78-A11B-D88E7624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4463C-0714-43E4-A4FA-E9A11DE9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81073-CED9-4DA0-AA3A-9DF1B552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330E2-76A7-4618-A3CE-661ADC75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6F6EB-6521-4C8E-AD6A-C05F68B3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8749B-CA46-40DA-899D-FC580DFB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F74-D980-4D04-AF68-35455B05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48180-054B-4FEE-A57C-B9798F7A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20664-02F5-45C9-80EC-B812FB64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0E853-47DC-4C36-9136-F48ED605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0A5D2-2F50-4225-8DA8-B67EE3E7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DD8FE-80A1-4079-8BB3-5661B0BC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74BEB-47BC-4C4B-A8B0-3C5D7441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A6041-CB23-4640-8CF3-44BC79CC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E47C2-F40E-4001-B997-975AE9B8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E06FE-BBF9-450E-B13C-FFFDB9F0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9912C-6653-4A79-8FC9-8257A60D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F49D-28A2-4F0D-A7BC-05C70B71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2F8F5-25A0-413E-A46F-47588120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1ACEF-200D-42B9-87A0-EB586FA4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D84B4-3791-4CA1-8A46-CB0413D6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19ACD-600B-4E9A-A753-6DEAE8FC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9C65A-E7A2-468B-A860-467F9490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F0407-2D2B-4263-A706-764B5CBB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EF9D5-7FE9-478C-840A-BC7A8844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822E5-DB38-4955-80D5-74E246DD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D3A74-93A6-4A90-AFF6-9DF7700D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64074-8F47-4122-AB0E-C0FB5AE0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817F-7FD0-4069-A52E-5B09DC3B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CA546-9691-4DA9-B0C1-EB968F1E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141FE-E6D7-49AF-8604-3CE655E0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E5BC7-C0C4-4288-9165-7133C732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2AD5E-CC30-44D2-B7E1-32453D05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2EA51-0B95-432A-AF18-E4D59741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5FEDE-B1F7-47F9-9529-656C9923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B1793-B1AC-4C42-B941-F843167F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CDA9A-E7CD-4262-A184-348E6F90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394A1-2EBE-41EC-A325-EF490A35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7C2FA-BBB8-46F2-8DAB-7AB5AC2F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E652-3D52-4F98-8B67-531F2389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2695B-0C81-4171-A8F7-76E35454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6EDA8-8BE8-45D5-AFDC-4C3875CB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9091B-1D5E-42CF-A544-8071349F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A1D1B-1ACE-410A-ABF5-129C0D73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864A3-3208-461B-8DE5-B35236B2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F0A58-E74E-4ACA-B59A-794BC15A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EB8D9-DBA3-4FC7-A58B-4F3EB0F1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7195D-4FB5-4B52-97C5-6972E965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C0B7A-DDE3-48DE-8E12-E1ED1810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CFE49-E43D-45C2-B665-C6F92A49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C2DB-F9C6-4D0D-B7E5-B0EDF899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E19D1-EA73-4EAD-847F-242C3D48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BC413-A92B-4C8B-9F72-B0029244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E230A-CE73-4E21-A0F3-244FCD9F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CF5A4-53D2-40F6-82F0-68CDF8DE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2D77B-79E9-461D-9E13-22E1A2DB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4362F-D97D-43F9-8F0F-BEEE7441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034F0-CB05-417E-AF9E-73AFB4C6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D46F6-148D-49B3-AAC0-B64E4A5C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4D0F4D-F928-43EB-ACE4-EBA84CDA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BC2CE-5EFC-4737-8E05-F1224D11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6ACB-3922-4561-A572-66E9635A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63B68-E42F-4E0E-B8AC-456619CE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809284-CD57-405E-B73A-A1E433AF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02EB59-EBF1-4A89-812C-55B8F520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6F983-4D66-47E0-AF34-A94D4E26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CF2F21-67B9-47ED-A569-3DF58FB3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81AD0-07ED-4EAF-9256-8559595E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60C8D1-08A2-41B6-B4E1-A8B0AD9C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3FC6D-71B4-4A78-BB35-1FCE3C56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6413E-800F-4A42-B7B1-051F8B88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33B70-EB55-461E-9660-F0B2D7AE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8A44-3B17-44F0-9759-E5D02D37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4D69DD-A233-4695-AAE6-0FD59EC3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CF7B1F-CF08-49FB-B958-35341D75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93D1B-1ABE-4C9C-91C1-B38A64B9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A8CC59-6139-4F90-A473-EDE6CB80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73C384-FEEC-4362-855A-A5993DEA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16122-F306-474F-BEB4-9DF6D3DD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96C6E-1D7C-405B-9EBA-94933795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4D7A1F-0E62-440B-A11C-537A5FB5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4E8FC4-2B2F-4771-B014-50E788E8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D977F-6215-4F47-927D-F241543C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F3AC-F66F-44C5-A273-375A2BF6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0D8678-6097-4A2E-B48A-EEF7F3EE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9EC386-B602-4EF9-AC64-8C592AF5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398A71-A249-4CDB-8803-DD6A1421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F76863-1E51-4E83-94FB-75E406C8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87F38-CC54-488B-A409-64E775F3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608792-FBF8-4352-94A3-928DED34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2055F4-8FED-44FB-8358-51AA6643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0403A-9F4D-4DD6-99DF-511A176D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FEBB97-8132-4432-885D-24AC33F1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E7081-2EFE-4D72-B6AF-4AD35EDB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7A2A-C761-4E4D-836E-71BF0DF3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66BA8A-686F-42ED-995E-7BB9C7A7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F15B22-1361-48F6-AFEF-2FBA8178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9471AE-016E-40AA-B9D7-312ACBAC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23AC38-3257-48E6-AF29-2B5CADD2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C52F70-6AB8-45CD-AD65-2CA6B40A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C0CE28-8C10-4EEB-9DA4-DC9CF992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938264-A7F1-4C6F-9CBA-FD25E9B8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2FBB57-4921-4413-9D7F-9E7A6C88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C87E88-8A84-4863-8C63-4CE63806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8E0F83-4AAC-4956-B96D-EFC8F7EA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9D57-C18B-427C-9A94-3A2DD8D4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F915-DFE6-472C-8C79-15AA4E7D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AB1D0F-D406-4524-A049-F4D4AB43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7FEA9D-5780-4AA1-8792-12A31CBB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EB1284-FACA-42B5-8201-7A7375B0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7A94B8-CB7F-4D12-B3EF-DBE32251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E6FE9-80FF-4C40-BA31-4ABDF11B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F110-BB2E-4DB2-A85A-C4C04DB0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AFAD-77C7-48F9-8388-0A94FD95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53E3-01C6-4308-BFAD-964AEED9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51C8-B3D7-4FEF-AAE3-05EF1464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2E32-45C9-4150-AA2F-E788072B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6C587-6651-4956-957A-EC576418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88430-8360-44FA-ACFF-CC90B89F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3F50E-5488-4B6A-B117-7EF6858B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9655E-A71B-43B4-9687-160C3D1F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D62-1B36-4C85-BC7C-EC7CAAC4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62508-0E85-4BA2-94F0-4609B23F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09419-94D9-4CDC-B5EB-2F43FFBF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252E7-DD6D-4C53-91A0-9D36EDB7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3467F-2C35-486E-855E-9A9F3F35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C138A-7504-4736-AD13-E01A3DC1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77024-4EB1-420C-BACA-0B7DB05E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3964E-F377-436F-8AB0-263442A4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D3C3B-B27B-4526-922F-353E30C3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356DC-E206-410E-87A0-6B8E6392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7D21D-46E0-4DF1-BA80-3045011D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F10-0CA0-41EA-BE34-8537031B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3D3A4-A5A6-41A7-8B60-A2D9612A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F1010-B905-4B38-B016-650CAD96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45DCB-16DF-4979-9237-E4D85997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48216-316D-4A04-808A-F52C5CCA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50307-8999-4385-BE3F-E409DD71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41BBF-9E61-4428-863F-7A660BBD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8818D-81BB-4413-8A4A-29039C61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AC3D7-F92C-4784-9F76-F83EBE90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612C3-FE0A-4834-B78E-CAAA9DE1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5AFB1-B100-43AD-B43E-84BFBD3D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69A-09EB-40D4-BD04-B24A5D63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A723C-765C-4FE6-B9B1-B4F44919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6C147-5161-4D22-B11A-04B87C10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9B540-F587-44AE-A2A2-07ABC0F4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F18AD-8A97-424C-B85C-A90DA397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B70C3-C324-406F-9AD4-C9C66CC9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3E38C-7734-4F02-99CA-CF5710B3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38F82-D155-4D3E-A735-CC9182E1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57AB2-B36D-47BF-A199-73661A58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3386B-5EF9-4284-9779-CE59D2F7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219DE-BD5C-4F08-80FE-D3F2BD08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E9D-78F9-4974-8B4D-1549A5A5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86D2F-6830-40C0-A91C-C67EAE6F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09704-BA47-4E61-9316-5CCDC448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4EE55-2462-4B41-BC45-530D359A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FC697-970B-4A0C-A50D-D3DF067A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9E012-BB0D-4F9B-9C51-5134EB3D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16872-8A8E-4430-ACEF-B874F352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C9CD2-8E60-4297-9C47-06D5603B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3914B-4B19-4BFD-98EF-7A9FA652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CD799-5BBE-417D-9906-047F3D11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84171-36EE-406D-BE4B-46AC194E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A8A-6DCE-4F45-AF50-0D46F3DE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DB57E-7216-4613-89A9-242661D1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73F5A-FF23-485E-A72F-574FBFEE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9D494-007B-4E5C-A529-F4522B2B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BE9C3-6067-4827-996B-4911BC4E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95DA3-2DC0-48FB-A8FE-DBF27D6D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9AC75-C68C-4EFD-96EF-69B177AF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32B87-8555-40BC-8F18-370BB24E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E37D6-4873-4D4D-8E05-2C09CADD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0A772-4179-49BC-B665-F514F2F5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F54E6-532B-4467-B1F4-6445AE3B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250-EADC-4187-BA14-6EB67D19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71868-A2DA-4561-8086-76A53730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24D08-E50B-41C4-AAB6-5AA13934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25C1E-0B9D-49EE-9384-7A0273D1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23B4E-C492-4346-B6AE-BFB8EC4A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2D0D0-5303-401B-AE7F-518806BF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147B0-CDD1-4D39-97D0-BB4589E4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584A0-F654-4229-A12B-950A1D8D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C5EF2-F57E-46CD-80BF-A0E23D4C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E5BF5-8D9A-4DF3-AD66-1C7F3FC0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C1D36-A16C-4C15-B4A3-A70D5C5E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6CD9-49E8-4F9F-8026-1B1A12A6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E49AD-FA72-4D90-ABF9-4BCC448D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9A1C0-4E6E-4EE5-8363-16FCDBFC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04915-D0B7-4DD3-A970-0B093DAA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B7EFA-29AE-4D85-A82F-3F4C53E6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6A0A2-6B79-4592-B691-02B9CF64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0CAB9-2648-4409-9C46-70A592F7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85D1C-ACB5-4270-BB6A-5AF03206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9BC41-8447-4041-95DC-5C056B98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F5E02-AD2B-404A-B4CD-79D21D54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256CC-8B1B-479F-B922-D9C57546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8CAAD-5CCF-47FD-A81F-97119CBB5563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31D9D-CE20-4A74-8FA1-F435688ECB7B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7FCDB-CC92-4E81-A77D-E829C853132C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  <a:ea typeface="SimSun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  <a:ea typeface="SimSun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DC8C8-2F88-44E3-A739-E0320411C6E8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2AABF-6521-4347-9961-F22E82E343FC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  <a:ea typeface="SimSun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  <a:ea typeface="SimSun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60583-BB9A-4ED7-AEF9-D8D963022DA4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550AA-B1EC-4FAF-9BA3-7FB5FD4EF819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35C20-732A-4744-8615-15A7081EF3FE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928C4-44A6-4350-A146-BB87FD753BE3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DB0D2-E225-4745-A542-E4D96CF9C564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8B9A3-F443-4D7E-88C9-472ABF6EF6B5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4022C-452A-4279-BEAC-EF0A54484FA4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69607-C8C2-4AFC-9E1A-6B615E55ACD9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C47AF-8A44-49EB-91A2-32238DEDBED4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0534A-12FC-4F65-AE76-CFB136CB5A47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21392-7F7F-45CC-B67F-C7BD9FA5F310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34A2C-4542-43D5-9904-997B68590504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SimSu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88760" y="2514600"/>
            <a:ext cx="8915400" cy="188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6600" spc="-1" strike="noStrike">
                <a:solidFill>
                  <a:srgbClr val="000000"/>
                </a:solidFill>
                <a:latin typeface="Brush Script MT"/>
              </a:rPr>
              <a:t>Selamat Datang</a:t>
            </a:r>
            <a:br>
              <a:rPr sz="4400"/>
            </a:br>
            <a:r>
              <a:rPr b="0" sz="4400" spc="-1" strike="noStrike">
                <a:solidFill>
                  <a:srgbClr val="000000"/>
                </a:solidFill>
                <a:latin typeface="Arial Black"/>
              </a:rPr>
              <a:t>DI RUANG RAPAT JEMPANG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2588760" y="5703840"/>
            <a:ext cx="8915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  <a:ea typeface="SimSun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595959"/>
                </a:solidFill>
                <a:latin typeface="Century Gothic"/>
                <a:ea typeface="SimSun"/>
              </a:rPr>
              <a:t>BADAN PENGHUBUNG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  <a:ea typeface="SimSun"/>
              </a:rPr>
              <a:t>PEMERINTAH PROVINSI KALIMANTAN TIMU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8" name="Picture 4" descr=""/>
          <p:cNvPicPr/>
          <p:nvPr/>
        </p:nvPicPr>
        <p:blipFill>
          <a:blip r:embed="rId2"/>
          <a:stretch/>
        </p:blipFill>
        <p:spPr>
          <a:xfrm>
            <a:off x="10632960" y="109440"/>
            <a:ext cx="1486080" cy="181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2744280" y="1830240"/>
            <a:ext cx="8882280" cy="28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3200" spc="-1" strike="noStrike">
                <a:solidFill>
                  <a:srgbClr val="262626"/>
                </a:solidFill>
                <a:latin typeface="Century Gothic"/>
              </a:rPr>
              <a:t>PENARIKAN DATA WAJIB PAJAK KENDARAAN BERMOTOR YANG TAAT PAJAK</a:t>
            </a:r>
            <a:br>
              <a:rPr sz="3200"/>
            </a:br>
            <a:r>
              <a:rPr b="1" sz="3200" spc="-1" strike="noStrike">
                <a:solidFill>
                  <a:srgbClr val="262626"/>
                </a:solidFill>
                <a:latin typeface="Century Gothic"/>
              </a:rPr>
              <a:t>DAN PENYEGELAN LAPTOP BERISI DATA WAJIB PAJAK YANG AKAN DIUNDI </a:t>
            </a:r>
            <a:br>
              <a:rPr sz="3200"/>
            </a:br>
            <a:r>
              <a:rPr b="1" sz="3200" spc="-1" strike="noStrike">
                <a:solidFill>
                  <a:srgbClr val="262626"/>
                </a:solidFill>
                <a:latin typeface="Century Gothic"/>
              </a:rPr>
              <a:t>TANGGAL, 5 OKTOBER 2022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0" name="Content Placeholder 3" descr="Isran_Noor_as_Governor_of_East_Kalimantan"/>
          <p:cNvPicPr/>
          <p:nvPr/>
        </p:nvPicPr>
        <p:blipFill>
          <a:blip r:embed="rId1"/>
          <a:stretch/>
        </p:blipFill>
        <p:spPr>
          <a:xfrm>
            <a:off x="704880" y="1714680"/>
            <a:ext cx="1944720" cy="2866680"/>
          </a:xfrm>
          <a:prstGeom prst="rect">
            <a:avLst/>
          </a:prstGeom>
          <a:ln w="0">
            <a:noFill/>
          </a:ln>
        </p:spPr>
      </p:pic>
      <p:pic>
        <p:nvPicPr>
          <p:cNvPr id="1181" name="Content Placeholder 4" descr=""/>
          <p:cNvPicPr/>
          <p:nvPr/>
        </p:nvPicPr>
        <p:blipFill>
          <a:blip r:embed="rId2"/>
          <a:stretch/>
        </p:blipFill>
        <p:spPr>
          <a:xfrm>
            <a:off x="10998360" y="61920"/>
            <a:ext cx="1082520" cy="132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8-04T06:46:00Z</dcterms:created>
  <dc:creator>DISKOMINFO_3</dc:creator>
  <dc:description/>
  <dc:language>en-US</dc:language>
  <cp:lastModifiedBy>bapenda_prov_kaltim</cp:lastModifiedBy>
  <dcterms:modified xsi:type="dcterms:W3CDTF">2022-10-01T05:18:51Z</dcterms:modified>
  <cp:revision>6</cp:revision>
  <dc:subject/>
  <dc:title>Selamat Datang DI RUANG RAPAT JEMPA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C0B3E39C8F41DBB7B774AFDF20594F</vt:lpwstr>
  </property>
  <property fmtid="{D5CDD505-2E9C-101B-9397-08002B2CF9AE}" pid="3" name="KSOProductBuildVer">
    <vt:lpwstr>1033-11.2.0.11341</vt:lpwstr>
  </property>
</Properties>
</file>